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099-30D4-474E-BDE4-D72F631A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45B-5CBF-448E-AB1B-014967F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66A-EDD3-41CD-B1A9-15BBDCFA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922-09C6-4F18-ADF8-33F653F9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F232-6FDE-4CD9-A429-EE5C2962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C7E4-B822-4855-BE6F-A15A6BC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1A14-7E64-4629-BF11-E83132CA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F06A-D590-48AC-9E66-8BB669A9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F96F-E8F5-40DD-A0C7-0C2B2189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AC1-032B-4BFB-B622-33299E6D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E048-B23A-4424-935E-F7378C2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435-9085-4E83-9801-D7904093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6996-6AE9-4254-8248-D71233A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B1D-86EF-453F-B3E4-01B1991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D457-8934-427F-9B1A-2527BC9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E2E-31C5-45F9-A141-8F45A6D9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E61E-620C-4955-B887-4A7BA053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416-4A69-4A01-8C05-B64FB43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5E0-738B-42AB-84F4-9A4AA5A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6B5-C921-43B8-9EDF-6957CB9D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12D-A299-4DE6-BD08-DB82971A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505-30F8-4A1E-96A9-693C9E5E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140-1086-41FE-B5A3-2986A71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7E3-EB35-4E94-9EE3-B9F2B34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CA1-C9EA-4CC7-A44B-135C0CFEAF6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0C14-3956-4CD7-A882-BBE6ED446F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By Alexander Belang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No help this tim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hare your own on my wikispa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914400"/>
            <a:ext cx="5790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untry Study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Where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I</a:t>
            </a: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 come fro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ome from Europe. I am half Danish and half American. So I will tell you about Denmark (since I come from ther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Hans Christian Anders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ns Christian Andersen was a very famous author who was known for his fairy tales. His most famous ones, however, were ‘The Snow Queen, The Ugly Duckling, The Little Mermaid, and the Emperor's Knew Cloth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014800" y="1447920"/>
            <a:ext cx="3848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Hans Christian </a:t>
            </a:r>
            <a:br>
              <a:rPr sz="4400"/>
            </a:b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Andersen </a:t>
            </a:r>
            <a:r>
              <a:rPr b="0" i="1" lang="en-US" sz="4400" spc="-1" strike="noStrike">
                <a:solidFill>
                  <a:srgbClr val="af273e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orn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805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ed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875 (aged 70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om;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nmar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892760" y="1752480"/>
            <a:ext cx="3486240" cy="48006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155560" y="64911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ans Christian Andersen, 1869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Denmark's Clim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nmark experiences a temperate climate. It means that the winters are mild and windy and the summers are co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554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Denmark, the happiest place in the worl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 2006 a survey found Denmark to be the happiest place in the world because of health, education est.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 2007 the capital (Copenhagen) was ranked the second most livable city in the world by the Monocle Magazine and ranked the happiest nation in the worl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314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Where is Denmar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nmark is in Scandinavia. If you on the map you will see where it i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72040" y="1905120"/>
            <a:ext cx="4971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;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erything by 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2:25:45Z</dcterms:created>
  <dc:creator>Ken Belanger</dc:creator>
  <dc:description/>
  <dc:language>en-US</dc:language>
  <cp:lastModifiedBy>Ken Belanger</cp:lastModifiedBy>
  <dcterms:modified xsi:type="dcterms:W3CDTF">2007-11-27T13:24:13Z</dcterms:modified>
  <cp:revision>2</cp:revision>
  <dc:subject/>
  <dc:title>Slide 1</dc:title>
</cp:coreProperties>
</file>